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AC55-2302-4A34-944A-5BF6D416D6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E460-77B6-46B7-A1CE-0B6ECE5FBB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BEF5-A20A-4EC4-8425-F7D00335DB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C928-A39E-45C3-947C-36D0C0F65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116D-48CA-45A1-AE74-1F65CE875C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A27F-556F-4130-B9BE-8C3BB42C78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BE15-A883-4ED2-9DF7-4A6B1122A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716C-F3F6-4C4D-8C32-E09DC93FB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9B1F-4C84-49CF-AAA8-A60A80E54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246C-4ED9-4831-9F81-07B783602A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1CE2-8A6F-4D70-9A09-4A2258077B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C7E8-3DCA-49FB-9907-F92B7898C2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B1DC-EB1F-4112-89DB-C149E7F4DA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3B7F-F0FA-4722-A4E0-B896F1F795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37C7-458D-44FE-8373-C8C64C9453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6D9F-EACA-464A-9923-1B458F414B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1F96-9331-49B4-A5CD-73459E5D67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A72F-B5A6-402D-B91E-0C5198D4C9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7C93-81A0-47DD-A94D-A00A9AAFD3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3C10-17BC-4C82-8F67-7482D3BAB1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742A-F1D9-4A68-ACA9-8C98EADE4B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00FB-36AB-4F89-94B8-34FFE12B3F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4601-64DB-45E3-8FFF-947B0ED015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22F7-1864-4672-BE9F-296DE17E73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08B-DAE6-47D2-A963-E289EE0053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F33-FF09-4E00-A0CA-1041298616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631-9163-4D6E-ACF8-BA9E5AB07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3BD-A20A-41E7-BCDB-F48950D6F5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6A2-79A4-4654-AA8A-E4F332CB95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C7E-D684-4A47-B5CA-D5146A4EF0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89E-3598-4596-9739-BA8FD04CB2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7A4-AF88-4769-BED9-9CFA095D16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0A2-9114-47A0-9774-550B7BFA7F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043-7B25-4726-9CF6-AE0D829E21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7BB-BF0A-4985-80C4-22A0C9B1BD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FEE-1514-42CB-B213-74FCE69545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77997-504D-4565-9882-5C41217AF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7042-3380-4936-ADBE-6A4DDC0EC6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067FE-2886-449E-B6DA-8023129F9AC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561D3-6A15-4BE4-8426-FE27033066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B8788-A572-4E4B-8493-B7596293CC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EC274-BC0C-442A-99A9-2F71BA8218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5A091-7FAB-4F8D-8613-FB7EC4B732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A772E-29B6-4E90-AD5F-B8FE876B02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67CE-B4BE-4CF2-9B1C-39C0BC67EB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D8639-BDAA-40AA-83C5-2EEEBC3B4E1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B7A4-A29B-4033-86C1-1A708F8C8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8F4AD-0606-48CA-A5DA-8C01C3440B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98EA9-2D5B-4DB1-8FED-3456860434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95A0-68B1-4BF3-97B6-AB047A2F23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EFD1D-CC38-412C-9DE6-4D1A5E627D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F516D-EC0B-4BC1-A930-80D8C401A0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29844-1FFA-4585-BA37-16BEFB3A68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81A98-F284-40CA-A6E1-54F4BDB46C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A8ECF-8ECD-4B0C-B272-EF85B0D8BA6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B004E-94BF-491E-A5CD-A0A4BC5208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D73FB-9E69-4CF0-896B-1C95E3417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68569-1089-49DC-BBFE-8CBA1BA5EA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40E08-3704-4929-B067-A1088E7B572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F4ABC-C568-439C-982A-3DE088B486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0A63-F907-453A-ABD7-B20FAAC121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967F-51AE-4420-8D14-1101FCD1C2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4ABE-0B94-43A7-9069-239C325E54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C1EF-5DAE-489A-B91E-CDCB7D8C81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AFED-D291-41F7-8F07-5C5A09563C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66F-861B-4B66-A590-44EE4222FC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34C1-0754-489D-9265-F29FD2863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4A02-92E0-4BA6-846D-A65A807D32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26AE-025D-4150-84FB-9A32B5E39D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B47-9C3B-4DA4-9FDA-E26CA02CD6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2857-DC62-4D83-8FEA-F31940787F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5CF3-2B7E-4344-9088-EFB7AAA7B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882E-32D8-489B-A6FD-6BA965E88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989-CF87-4892-873C-0A46763883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EED9-453F-4790-800F-86C88DC6C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4308-04FD-4674-BD58-DB480D174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070A-D034-49A4-A023-1A5C0E81C8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0C8-43F3-4FD9-BD8F-847792EAA9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5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0093-8D63-4727-B4D7-A62631FB052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3468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revi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learning from this uni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re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presentation to meet specified criteri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ir own work and othe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CBD-4BB2-4CCE-AEE8-B9A42082E59D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765920" y="3224160"/>
            <a:ext cx="33163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0721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What makes a good presentation?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6240" y="1506240"/>
            <a:ext cx="115189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or the audienc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lear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mag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as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read text and fon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ullet points, o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hor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sentenc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Use of only a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olou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Keep i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imp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!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A77A-01C6-4D0A-907B-1836A5ADBBFC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6850080" y="1623960"/>
            <a:ext cx="1441440" cy="1406520"/>
            <a:chOff x="6850080" y="1623960"/>
            <a:chExt cx="1441440" cy="1406520"/>
          </a:xfrm>
        </p:grpSpPr>
        <p:sp>
          <p:nvSpPr>
            <p:cNvPr id="334" name="Freeform: Shape 4"/>
            <p:cNvSpPr/>
            <p:nvPr/>
          </p:nvSpPr>
          <p:spPr>
            <a:xfrm>
              <a:off x="6982560" y="172044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Freeform: Shape 5"/>
            <p:cNvSpPr/>
            <p:nvPr/>
          </p:nvSpPr>
          <p:spPr>
            <a:xfrm>
              <a:off x="6850080" y="162396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Freeform: Shape 6"/>
            <p:cNvSpPr/>
            <p:nvPr/>
          </p:nvSpPr>
          <p:spPr>
            <a:xfrm>
              <a:off x="7827480" y="20001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: Shape 7"/>
            <p:cNvSpPr/>
            <p:nvPr/>
          </p:nvSpPr>
          <p:spPr>
            <a:xfrm>
              <a:off x="7363080" y="1947240"/>
              <a:ext cx="470520" cy="59148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: Shape 8"/>
            <p:cNvSpPr/>
            <p:nvPr/>
          </p:nvSpPr>
          <p:spPr>
            <a:xfrm>
              <a:off x="7181640" y="22161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8761320" y="2120760"/>
            <a:ext cx="1862280" cy="1816200"/>
            <a:chOff x="8761320" y="2120760"/>
            <a:chExt cx="1862280" cy="1816200"/>
          </a:xfrm>
        </p:grpSpPr>
        <p:sp>
          <p:nvSpPr>
            <p:cNvPr id="340" name="Freeform: Shape 27"/>
            <p:cNvSpPr/>
            <p:nvPr/>
          </p:nvSpPr>
          <p:spPr>
            <a:xfrm>
              <a:off x="8932680" y="224532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: Shape 28"/>
            <p:cNvSpPr/>
            <p:nvPr/>
          </p:nvSpPr>
          <p:spPr>
            <a:xfrm>
              <a:off x="8761320" y="212076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: Shape 29"/>
            <p:cNvSpPr/>
            <p:nvPr/>
          </p:nvSpPr>
          <p:spPr>
            <a:xfrm>
              <a:off x="10024200" y="2606400"/>
              <a:ext cx="7560" cy="75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3" name="Freeform: Shape 30"/>
            <p:cNvSpPr/>
            <p:nvPr/>
          </p:nvSpPr>
          <p:spPr>
            <a:xfrm>
              <a:off x="9424080" y="2538360"/>
              <a:ext cx="607680" cy="7639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4" name="Freeform: Shape 31"/>
            <p:cNvSpPr/>
            <p:nvPr/>
          </p:nvSpPr>
          <p:spPr>
            <a:xfrm>
              <a:off x="9189720" y="2885760"/>
              <a:ext cx="233640" cy="41292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7219800" y="3624120"/>
            <a:ext cx="1441440" cy="1405080"/>
            <a:chOff x="7219800" y="3624120"/>
            <a:chExt cx="1441440" cy="1405080"/>
          </a:xfrm>
        </p:grpSpPr>
        <p:sp>
          <p:nvSpPr>
            <p:cNvPr id="346" name="Freeform: Shape 33"/>
            <p:cNvSpPr/>
            <p:nvPr/>
          </p:nvSpPr>
          <p:spPr>
            <a:xfrm>
              <a:off x="7352280" y="372060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7" name="Freeform: Shape 34"/>
            <p:cNvSpPr/>
            <p:nvPr/>
          </p:nvSpPr>
          <p:spPr>
            <a:xfrm>
              <a:off x="7219800" y="362412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8" name="Freeform: Shape 35"/>
            <p:cNvSpPr/>
            <p:nvPr/>
          </p:nvSpPr>
          <p:spPr>
            <a:xfrm>
              <a:off x="8197200" y="39999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9" name="Freeform: Shape 36"/>
            <p:cNvSpPr/>
            <p:nvPr/>
          </p:nvSpPr>
          <p:spPr>
            <a:xfrm>
              <a:off x="7732800" y="3947040"/>
              <a:ext cx="470520" cy="5911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0" name="Freeform: Shape 37"/>
            <p:cNvSpPr/>
            <p:nvPr/>
          </p:nvSpPr>
          <p:spPr>
            <a:xfrm>
              <a:off x="7551360" y="42159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4475160"/>
            <a:ext cx="184464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482904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uccess criteria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BF6B-F945-4C62-B16F-D033237C1D1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79600" y="137304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ai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what you have learn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227640" y="137304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Be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for your audienc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(your peers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79600" y="2916360"/>
            <a:ext cx="11032920" cy="128880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Includ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t least: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r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lide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uitable image (and the source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Italian word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creenshot of your spreadshee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579600" y="447516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Use no more tha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fonts and colour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6227640" y="447516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Check for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pelling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punctuatio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826-FB56-47D5-BD70-C21E19DBDAE9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dcterms:modified xsi:type="dcterms:W3CDTF">2019-11-08T12:37:53Z</dcterms:modified>
  <cp:revision>105</cp:revision>
  <dc:subject/>
  <dc:title>PowerPoint Presentation</dc:title>
</cp:coreProperties>
</file>