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DFD-17A5-4360-AB69-798AD7FB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120-AF15-4482-B671-BB2C2005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175-19FB-4272-92F6-161826F6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47B-9A14-49EF-9F0C-531913A1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2F0-76BE-4C6D-92A2-B12165FE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02D-FC83-4989-9E40-285A8DDC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253-D074-4B99-943B-40671A20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8DD-C3B4-4DB1-8A0D-771F596C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238-3065-4360-9864-B95A9941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BE6-B60A-4585-9116-68CEA34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242-FDD5-47DA-96BB-04A6D00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AFA-B787-401B-BB7E-4D39888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03280" y="6244920"/>
            <a:ext cx="662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5224-CAC1-4AA5-9705-B144E39DD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5734080"/>
            <a:ext cx="9190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08360" y="2349360"/>
            <a:ext cx="2663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 Condensed Extra Bold"/>
              </a:rPr>
              <a:t>5.9 Writing an 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88000" y="549360"/>
            <a:ext cx="1897200" cy="125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72360" y="5157720"/>
            <a:ext cx="2286000" cy="8859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900000" y="1052640"/>
            <a:ext cx="3855960" cy="4273560"/>
            <a:chOff x="900000" y="1052640"/>
            <a:chExt cx="3855960" cy="42735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900000" y="1052640"/>
              <a:ext cx="3855960" cy="38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975960" y="4653000"/>
              <a:ext cx="378000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5240" y="4554360"/>
            <a:ext cx="4176720" cy="13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abstr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t is the ‘shop window’ of scientific activity, and accompanies articles, papers and reviews as well as presentations and posters given at conferen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t will generally be the first thing read by somebody when they encounter the article or activit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t should be concise and clear, presenting the aims, components and conclusions of the work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features of an abstra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should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 short (150-200 word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ve 1 or 2 sentences of introd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 a condensed description of the contents of the article and any arguments present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 a description of the most important findings in the artic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 a 1 or 2 sentence summary of the conclusions / recommendations presented in the artic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 written as one paragraph with no secondary heading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an abstract for a research paper differ from one for a revie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esearch paper focuses on the use of specific techniques and methodologies to answer a question posed by the researcher.  The abstract will make mention of the question, the methodologies and the results / conclus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eview draws together research from a large number of research papers or other sources.  As such, the abstract will centre on the themes of the review and the conclusions draw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5589720"/>
            <a:ext cx="122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056360" cy="180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48:27Z</dcterms:created>
  <dc:creator>dr1d06</dc:creator>
  <dc:description/>
  <dc:language>en-US</dc:language>
  <cp:lastModifiedBy>jdavies</cp:lastModifiedBy>
  <dcterms:modified xsi:type="dcterms:W3CDTF">2008-10-29T12:55:45Z</dcterms:modified>
  <cp:revision>11</cp:revision>
  <dc:subject/>
  <dc:title>Plastics from Potatoes</dc:title>
</cp:coreProperties>
</file>