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5319-F442-41AC-8357-ADF6968588E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EB98-42AA-4380-B2D1-E2657A55987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4EDE-5E4C-4D7C-A908-6769C409CF8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5A2-AF97-482C-914D-500319B6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9B0-9014-4F23-8470-BED4A9C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9C4-10D1-462F-982E-60A41044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C04-E610-45DA-BDCA-DACC6F39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769-110F-415B-9B2E-CFC45D5A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570-0332-4F1A-B0D2-7BD5AE1C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BD4-5029-4DD7-B62D-C8073198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5AC-7DC9-4090-AF34-37CC33A4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CED-D624-42DB-B957-6EE7091E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551-9041-45BD-8BC8-31655E11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99C-82E0-41F5-AFA3-3034475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12C-F619-43B1-9FF1-57159B4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8DC3-9AED-4C82-A743-37F574B9C461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TWnQDAhp9k" TargetMode="External"/><Relationship Id="rId2" Type="http://schemas.openxmlformats.org/officeDocument/2006/relationships/hyperlink" Target="http://www.google.co.uk/url?q=http://www.tbotech.com/sodacansafe.htm&amp;sa=U&amp;ei=TmdXVIWSJ9bvaPrsgRg&amp;ved=0CBYQ9QEwAA&amp;usg=AFQjCNFKpRcxorlNphas7UuC9J1t4pUCe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url?q=http://www.mini-me.com/&amp;sa=U&amp;ei=oGdXVKTNDpPvaqCvgsAI&amp;ved=0CBwQ9QEwAw&amp;usg=AFQjCNGMfR9eTlqlCH6C5OR-2qf4GbyPiQ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.uk/url?q=http://pngimg.com/download/2324&amp;sa=U&amp;ei=9GdXVPa3B4fbaLHKgKgB&amp;ved=0CDAQ9QEwDQ&amp;usg=AFQjCNF_WnswIVSW1Lk41YZzpxxM3VP6qw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co.uk/url?q=http://www.tbotech.com/sodacansafe.htm&amp;sa=U&amp;ei=TmdXVIWSJ9bvaPrsgRg&amp;ved=0CBYQ9QEwAA&amp;usg=AFQjCNFKpRcxorlNphas7UuC9J1t4pUCeg" TargetMode="External"/><Relationship Id="rId9" Type="http://schemas.openxmlformats.org/officeDocument/2006/relationships/image" Target="../media/image2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google.co.uk/url?q=http://www.tbotech.com/sodacansafe.htm&amp;sa=U&amp;ei=TmdXVIWSJ9bvaPrsgRg&amp;ved=0CBYQ9QEwAA&amp;usg=AFQjCNFKpRcxorlNphas7UuC9J1t4pUCe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url?q=http://www.mini-me.com/&amp;sa=U&amp;ei=oGdXVKTNDpPvaqCvgsAI&amp;ved=0CBwQ9QEwAw&amp;usg=AFQjCNGMfR9eTlqlCH6C5OR-2qf4GbyPiQ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Engine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4705200" cy="3528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1619280" y="5332320"/>
            <a:ext cx="576108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C91A-D8D2-4503-9D15-191F7C7D99BB}" type="datetime2">
              <a:rPr b="0" lang="en-GB" sz="2800" spc="-1" strike="noStrike">
                <a:solidFill>
                  <a:srgbClr val="ffffff"/>
                </a:solidFill>
                <a:latin typeface="Trebuchet MS"/>
                <a:ea typeface="MS PGothic"/>
              </a:rPr>
              <a:t>Wednesday 29 July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417996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421200" y="1125360"/>
            <a:ext cx="38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acti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oduce a one-off charity key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2373480" y="2565360"/>
            <a:ext cx="4114800" cy="187164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d9d9d9"/>
              </a:gs>
            </a:gsLst>
            <a:lin ang="5400000"/>
          </a:gra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C H I L D R E 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I N   N E E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3"/>
          <p:cNvCxnSpPr/>
          <p:nvPr/>
        </p:nvCxnSpPr>
        <p:spPr>
          <a:xfrm>
            <a:off x="2373480" y="2276280"/>
            <a:ext cx="4115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Straight Arrow Connector 9"/>
          <p:cNvCxnSpPr/>
          <p:nvPr/>
        </p:nvCxnSpPr>
        <p:spPr>
          <a:xfrm>
            <a:off x="2230200" y="256500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Oval 7"/>
          <p:cNvSpPr/>
          <p:nvPr/>
        </p:nvSpPr>
        <p:spPr>
          <a:xfrm>
            <a:off x="6118200" y="3357720"/>
            <a:ext cx="216000" cy="21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034880" y="1916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1336320" y="3316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6291720" y="37656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.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17"/>
          <p:cNvCxnSpPr/>
          <p:nvPr/>
        </p:nvCxnSpPr>
        <p:spPr>
          <a:xfrm>
            <a:off x="6225840" y="3504960"/>
            <a:ext cx="108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Straight Arrow Connector 19"/>
          <p:cNvCxnSpPr/>
          <p:nvPr/>
        </p:nvCxnSpPr>
        <p:spPr>
          <a:xfrm>
            <a:off x="6206760" y="3452400"/>
            <a:ext cx="2818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2" name="TextBox 22"/>
          <p:cNvSpPr/>
          <p:nvPr/>
        </p:nvSpPr>
        <p:spPr>
          <a:xfrm>
            <a:off x="6122520" y="29638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pudsey2[1]"/>
          <p:cNvPicPr/>
          <p:nvPr/>
        </p:nvPicPr>
        <p:blipFill>
          <a:blip r:embed="rId2"/>
          <a:stretch/>
        </p:blipFill>
        <p:spPr>
          <a:xfrm>
            <a:off x="7956720" y="5634000"/>
            <a:ext cx="699840" cy="9460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488880" y="4603680"/>
            <a:ext cx="832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Engineer’s Blu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Steel Ruler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Try-Squar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Junior Hacksaw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Flat Fil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Metal Vic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illar Drill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Emery 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Letter Punch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Ball-Pein H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421200" y="1125360"/>
            <a:ext cx="38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acti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oduce a one-off charity key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Cutting &amp; D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2627280" y="3141720"/>
            <a:ext cx="4114800" cy="187164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d9d9d9"/>
              </a:gs>
            </a:gsLst>
            <a:lin ang="5400000"/>
          </a:gra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C H I L D R E 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I N   N E E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3"/>
          <p:cNvCxnSpPr/>
          <p:nvPr/>
        </p:nvCxnSpPr>
        <p:spPr>
          <a:xfrm>
            <a:off x="2627280" y="2852280"/>
            <a:ext cx="4115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9" name="Straight Arrow Connector 9"/>
          <p:cNvCxnSpPr/>
          <p:nvPr/>
        </p:nvCxnSpPr>
        <p:spPr>
          <a:xfrm>
            <a:off x="2484000" y="314136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0" name="Oval 7"/>
          <p:cNvSpPr/>
          <p:nvPr/>
        </p:nvSpPr>
        <p:spPr>
          <a:xfrm>
            <a:off x="6372360" y="3933720"/>
            <a:ext cx="21564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290120" y="2492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5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1591200" y="3892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3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6546600" y="43419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17"/>
          <p:cNvCxnSpPr/>
          <p:nvPr/>
        </p:nvCxnSpPr>
        <p:spPr>
          <a:xfrm>
            <a:off x="6479640" y="408132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Straight Arrow Connector 19"/>
          <p:cNvCxnSpPr/>
          <p:nvPr/>
        </p:nvCxnSpPr>
        <p:spPr>
          <a:xfrm>
            <a:off x="6461280" y="4029120"/>
            <a:ext cx="281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" name="TextBox 22"/>
          <p:cNvSpPr/>
          <p:nvPr/>
        </p:nvSpPr>
        <p:spPr>
          <a:xfrm>
            <a:off x="6376320" y="3540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pudsey2[1]"/>
          <p:cNvPicPr/>
          <p:nvPr/>
        </p:nvPicPr>
        <p:blipFill>
          <a:blip r:embed="rId2"/>
          <a:stretch/>
        </p:blipFill>
        <p:spPr>
          <a:xfrm>
            <a:off x="7956720" y="5634000"/>
            <a:ext cx="6998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421200" y="1125360"/>
            <a:ext cx="38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acti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oduce a one-off charity key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St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2627280" y="3141720"/>
            <a:ext cx="4114800" cy="187164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d9d9d9"/>
              </a:gs>
            </a:gsLst>
            <a:lin ang="5400000"/>
          </a:gra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C H I L D R E 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I N   N E E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9"/>
          <p:cNvCxnSpPr/>
          <p:nvPr/>
        </p:nvCxnSpPr>
        <p:spPr>
          <a:xfrm>
            <a:off x="2484000" y="4581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" name="Oval 7"/>
          <p:cNvSpPr/>
          <p:nvPr/>
        </p:nvSpPr>
        <p:spPr>
          <a:xfrm>
            <a:off x="6372360" y="3933720"/>
            <a:ext cx="21564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1652040" y="461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6951600" y="43369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7"/>
          <p:cNvCxnSpPr/>
          <p:nvPr/>
        </p:nvCxnSpPr>
        <p:spPr>
          <a:xfrm>
            <a:off x="6884640" y="407664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46" name="Picture 2" descr="pudsey2[1]"/>
          <p:cNvPicPr/>
          <p:nvPr/>
        </p:nvPicPr>
        <p:blipFill>
          <a:blip r:embed="rId2"/>
          <a:stretch/>
        </p:blipFill>
        <p:spPr>
          <a:xfrm>
            <a:off x="7956720" y="5634000"/>
            <a:ext cx="699840" cy="946080"/>
          </a:xfrm>
          <a:prstGeom prst="rect">
            <a:avLst/>
          </a:prstGeom>
          <a:ln w="0">
            <a:noFill/>
          </a:ln>
        </p:spPr>
      </p:pic>
      <p:sp>
        <p:nvSpPr>
          <p:cNvPr id="147" name="Straight Connector 5"/>
          <p:cNvSpPr/>
          <p:nvPr/>
        </p:nvSpPr>
        <p:spPr>
          <a:xfrm flipH="1">
            <a:off x="2627280" y="4038480"/>
            <a:ext cx="4402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20"/>
          <p:cNvSpPr/>
          <p:nvPr/>
        </p:nvSpPr>
        <p:spPr>
          <a:xfrm flipH="1">
            <a:off x="2344680" y="4568760"/>
            <a:ext cx="4402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5508720" y="476100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684360" y="1413000"/>
            <a:ext cx="76327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MS PGothic"/>
              </a:rPr>
              <a:t>Quality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Is the key ring the correct siz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Are the letters evenly spac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Is the hole drilled in the correct pl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Is the text spelled correct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For you: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For Children in n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1430280" y="5224320"/>
            <a:ext cx="2459160" cy="932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995760" y="5638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istock_000005807071xsmall"/>
          <p:cNvPicPr/>
          <p:nvPr/>
        </p:nvPicPr>
        <p:blipFill>
          <a:blip r:embed="rId1"/>
          <a:stretch/>
        </p:blipFill>
        <p:spPr>
          <a:xfrm>
            <a:off x="5999040" y="620640"/>
            <a:ext cx="2295720" cy="229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0" y="0"/>
            <a:ext cx="1979640" cy="762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Cycle of Lear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Studen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895480" y="900000"/>
            <a:ext cx="3189240" cy="762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MS PGothic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entagon 8"/>
          <p:cNvSpPr/>
          <p:nvPr/>
        </p:nvSpPr>
        <p:spPr>
          <a:xfrm>
            <a:off x="0" y="2997360"/>
            <a:ext cx="7488360" cy="143964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what one-off production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entagon 9"/>
          <p:cNvSpPr/>
          <p:nvPr/>
        </p:nvSpPr>
        <p:spPr>
          <a:xfrm>
            <a:off x="826920" y="4206960"/>
            <a:ext cx="7490160" cy="1441440"/>
          </a:xfrm>
          <a:custGeom>
            <a:avLst/>
            <a:gdLst>
              <a:gd name="textAreaLeft" fmla="*/ 0 w 7490160"/>
              <a:gd name="textAreaRight" fmla="*/ 7490520 w 74901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1" y="0"/>
                </a:lnTo>
                <a:lnTo>
                  <a:pt x="21600" y="10800"/>
                </a:lnTo>
                <a:lnTo>
                  <a:pt x="19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Good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some advantages and disadvantages of one-off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0"/>
          <p:cNvSpPr/>
          <p:nvPr/>
        </p:nvSpPr>
        <p:spPr>
          <a:xfrm>
            <a:off x="1655640" y="5418000"/>
            <a:ext cx="7488360" cy="144000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xceptional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scribe one-off production to enable future comparisons</a:t>
            </a: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1349280" y="1025640"/>
            <a:ext cx="4321440" cy="72216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Comic Sans MS"/>
              </a:rPr>
              <a:t>Scales of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593720" y="6026040"/>
            <a:ext cx="28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ea typeface="MS PGothic"/>
                <a:hlinkClick r:id="rId1"/>
              </a:rPr>
              <a:t>http://www.youtube.com/watch?v=DTWnQDAhp9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08000" y="1989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Watch the vide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List the items that you see, how many of each of these items do you think are made in one go?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Fill out the char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16000" y="4149720"/>
          <a:ext cx="2236680" cy="1467000"/>
        </p:xfrm>
        <a:graphic>
          <a:graphicData uri="http://schemas.openxmlformats.org/drawingml/2006/table">
            <a:tbl>
              <a:tblPr/>
              <a:tblGrid>
                <a:gridCol w="1119240"/>
                <a:gridCol w="1117440"/>
              </a:tblGrid>
              <a:tr h="29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umber M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Picture 9" descr="http://t2.gstatic.com/images?q=tbn:ANd9GcRvxwmgdUJUnrPqi2bjKTw3Asy8KuLYPkm9bR8DwpP4WSoy9_bZ3s7ddP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4724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t2.gstatic.com/images?q=tbn:ANd9GcTVyFHJRm5TMR9hcK8g_JGTRiaEXPDiddL-_gvRSlsJ6HgGOZ3KS_ZLNw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26040" y="3967200"/>
            <a:ext cx="1577880" cy="83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t2.gstatic.com/images?q=tbn:ANd9GcTgaWqhLg59qCVIDyyZfO38w0fsE1ApjktFBxuqrG6vsebunNBiyPI3eq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26120" y="3052800"/>
            <a:ext cx="1428840" cy="838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2"/>
          <p:cNvSpPr/>
          <p:nvPr/>
        </p:nvSpPr>
        <p:spPr>
          <a:xfrm>
            <a:off x="6659640" y="1335240"/>
            <a:ext cx="2395440" cy="49957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Context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rebuchet MS"/>
              </a:rPr>
              <a:t>New topic on Scales of Produ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What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rebuchet MS"/>
              </a:rPr>
              <a:t>Scales of Production is about how many of an item are made at one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Why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rebuchet MS"/>
              </a:rPr>
              <a:t>All engineered products will be produced at a certain sc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Previously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rebuchet MS"/>
              </a:rPr>
              <a:t>You will have looked at some scales of production in KS3 D&amp;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Next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rebuchet MS"/>
              </a:rPr>
              <a:t>You are going to make some products at different sc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http://t2.gstatic.com/images?q=tbn:ANd9GcRvxwmgdUJUnrPqi2bjKTw3Asy8KuLYPkm9bR8DwpP4WSoy9_bZ3s7ddP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41920" y="5616720"/>
            <a:ext cx="1181160" cy="1180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10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11"/>
          <a:stretch/>
        </p:blipFill>
        <p:spPr>
          <a:xfrm>
            <a:off x="4549680" y="2063880"/>
            <a:ext cx="197172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8920" y="2276280"/>
            <a:ext cx="8713800" cy="26650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MS PGothic"/>
              </a:rPr>
              <a:t>To understand the scale of engineering production: one-of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MS PGothic"/>
              </a:rPr>
              <a:t>These issues affect all aspects of the course and should be considered through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Team%20puzzle"/>
          <p:cNvPicPr/>
          <p:nvPr/>
        </p:nvPicPr>
        <p:blipFill>
          <a:blip r:embed="rId1"/>
          <a:srcRect l="11218" t="15988" r="11679" b="12804"/>
          <a:stretch/>
        </p:blipFill>
        <p:spPr>
          <a:xfrm>
            <a:off x="7020000" y="5040360"/>
            <a:ext cx="1962000" cy="1816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2573280" y="747720"/>
            <a:ext cx="3997440" cy="762120"/>
          </a:xfrm>
          <a:prstGeom prst="rect">
            <a:avLst/>
          </a:pr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Comic Sans MS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stock_000005807071xsmall"/>
          <p:cNvPicPr/>
          <p:nvPr/>
        </p:nvPicPr>
        <p:blipFill>
          <a:blip r:embed="rId1"/>
          <a:stretch/>
        </p:blipFill>
        <p:spPr>
          <a:xfrm>
            <a:off x="7416720" y="1987560"/>
            <a:ext cx="172728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Pentagon 5"/>
          <p:cNvSpPr/>
          <p:nvPr/>
        </p:nvSpPr>
        <p:spPr>
          <a:xfrm>
            <a:off x="0" y="2997360"/>
            <a:ext cx="7488360" cy="143964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what one-off production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entagon 6"/>
          <p:cNvSpPr/>
          <p:nvPr/>
        </p:nvSpPr>
        <p:spPr>
          <a:xfrm>
            <a:off x="826920" y="4206960"/>
            <a:ext cx="7490160" cy="1441440"/>
          </a:xfrm>
          <a:custGeom>
            <a:avLst/>
            <a:gdLst>
              <a:gd name="textAreaLeft" fmla="*/ 0 w 7490160"/>
              <a:gd name="textAreaRight" fmla="*/ 7490520 w 74901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1" y="0"/>
                </a:lnTo>
                <a:lnTo>
                  <a:pt x="21600" y="10800"/>
                </a:lnTo>
                <a:lnTo>
                  <a:pt x="19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Good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some advantages and disadvantages of one-off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entagon 7"/>
          <p:cNvSpPr/>
          <p:nvPr/>
        </p:nvSpPr>
        <p:spPr>
          <a:xfrm>
            <a:off x="1655640" y="5418000"/>
            <a:ext cx="7488360" cy="144000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xceptional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scribe one-off production to enable future comparisons</a:t>
            </a: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573280" y="747720"/>
            <a:ext cx="3997440" cy="762120"/>
          </a:xfrm>
          <a:prstGeom prst="rect">
            <a:avLst/>
          </a:pr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Comic Sans MS"/>
              </a:rPr>
              <a:t>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126200" y="3218040"/>
            <a:ext cx="1971720" cy="100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://t2.gstatic.com/images?q=tbn:ANd9GcRvxwmgdUJUnrPqi2bjKTw3Asy8KuLYPkm9bR8DwpP4WSoy9_bZ3s7ddP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43560" y="551664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http://t2.gstatic.com/images?q=tbn:ANd9GcTVyFHJRm5TMR9hcK8g_JGTRiaEXPDiddL-_gvRSlsJ6HgGOZ3KS_ZLNw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76360" y="5727600"/>
            <a:ext cx="1578240" cy="83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http://t2.gstatic.com/images?q=tbn:ANd9GcTgaWqhLg59qCVIDyyZfO38w0fsE1ApjktFBxuqrG6vsebunNBiyPI3eqg"/>
          <p:cNvPicPr/>
          <p:nvPr/>
        </p:nvPicPr>
        <p:blipFill>
          <a:blip r:embed="rId6"/>
          <a:stretch/>
        </p:blipFill>
        <p:spPr>
          <a:xfrm>
            <a:off x="47520" y="345456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7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77" name="Oval 6"/>
          <p:cNvSpPr/>
          <p:nvPr/>
        </p:nvSpPr>
        <p:spPr>
          <a:xfrm>
            <a:off x="6500880" y="2214720"/>
            <a:ext cx="1857240" cy="10713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857160" y="2286000"/>
            <a:ext cx="2071800" cy="1214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1285920" y="5143680"/>
            <a:ext cx="1428840" cy="10000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"/>
          <p:cNvSpPr/>
          <p:nvPr/>
        </p:nvSpPr>
        <p:spPr>
          <a:xfrm>
            <a:off x="6227640" y="4724280"/>
            <a:ext cx="2463840" cy="11430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3429000" y="3214800"/>
            <a:ext cx="2357280" cy="14284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2"/>
          <p:cNvCxnSpPr>
            <a:stCxn id="81" idx="7"/>
          </p:cNvCxnSpPr>
          <p:nvPr/>
        </p:nvCxnSpPr>
        <p:spPr>
          <a:xfrm flipV="1">
            <a:off x="5442120" y="2923560"/>
            <a:ext cx="100224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13"/>
          <p:cNvCxnSpPr>
            <a:stCxn id="81" idx="1"/>
          </p:cNvCxnSpPr>
          <p:nvPr/>
        </p:nvCxnSpPr>
        <p:spPr>
          <a:xfrm flipH="1" flipV="1">
            <a:off x="2986920" y="3141000"/>
            <a:ext cx="786600" cy="28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14"/>
          <p:cNvCxnSpPr>
            <a:stCxn id="81" idx="3"/>
          </p:cNvCxnSpPr>
          <p:nvPr/>
        </p:nvCxnSpPr>
        <p:spPr>
          <a:xfrm flipH="1">
            <a:off x="2555640" y="4433400"/>
            <a:ext cx="121824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TextBox 15"/>
          <p:cNvSpPr/>
          <p:nvPr/>
        </p:nvSpPr>
        <p:spPr>
          <a:xfrm>
            <a:off x="3492360" y="3429000"/>
            <a:ext cx="22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  <a:ea typeface="MS PGothic"/>
              </a:rPr>
              <a:t>Scales of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1285920" y="26431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  <a:ea typeface="MS PGothic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1428840" y="53578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  <a:ea typeface="MS PGothic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6572160" y="24289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  <a:ea typeface="MS PGothic"/>
              </a:rPr>
              <a:t>One-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19"/>
          <p:cNvCxnSpPr>
            <a:stCxn id="81" idx="5"/>
          </p:cNvCxnSpPr>
          <p:nvPr/>
        </p:nvCxnSpPr>
        <p:spPr>
          <a:xfrm>
            <a:off x="5441760" y="4433760"/>
            <a:ext cx="85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TextBox 20"/>
          <p:cNvSpPr/>
          <p:nvPr/>
        </p:nvSpPr>
        <p:spPr>
          <a:xfrm>
            <a:off x="6572160" y="4929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1547640" y="907920"/>
            <a:ext cx="6048720" cy="69876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  <a:ea typeface="Comic Sans MS"/>
              </a:rPr>
              <a:t>One-Off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0" y="1652760"/>
            <a:ext cx="91440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One-off or individual production, is used to manufacture one-off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It is often related to as “tailor made”, bespoke or customised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A key feature is often a high-cost product that is manufactured to a client spec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This kind of one-off product may be higher cost due to more expensive materials and time consuming hand crafted production and finis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Wedding dresses and custom made pieces use this type of manufa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This is the most expensive type of manufa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Highly skilled workers will be used, and will work on one job at a time. This means that it is extremely expens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2601720" y="366228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MS PGothic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563360" y="3662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MS PGothic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4829040" y="4292640"/>
            <a:ext cx="2939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High uni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Low production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Requires skilled lab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High labour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4572000" y="3141720"/>
            <a:ext cx="0" cy="360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169280" y="484668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General tools and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Low initial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t1.gstatic.com/images?q=tbn:ANd9GcSZhLwEC8Ksj8In38_N7ohlbXubTMWwcmGRPTf0XL_HYUJD3enaO0AwHg"/>
          <p:cNvPicPr/>
          <p:nvPr/>
        </p:nvPicPr>
        <p:blipFill>
          <a:blip r:embed="rId2"/>
          <a:stretch/>
        </p:blipFill>
        <p:spPr>
          <a:xfrm>
            <a:off x="2987640" y="1989000"/>
            <a:ext cx="1260360" cy="136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t0.gstatic.com/images?q=tbn:ANd9GcST5e7IYTVpzeD39qe56N7kqb5TeMTaoi9ks_lmGGZ2_xCLbhCZRjKH2HM"/>
          <p:cNvPicPr/>
          <p:nvPr/>
        </p:nvPicPr>
        <p:blipFill>
          <a:blip r:embed="rId3"/>
          <a:stretch/>
        </p:blipFill>
        <p:spPr>
          <a:xfrm>
            <a:off x="4890960" y="1989000"/>
            <a:ext cx="1265400" cy="1365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1547640" y="907920"/>
            <a:ext cx="6048720" cy="69876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  <a:ea typeface="Comic Sans MS"/>
              </a:rPr>
              <a:t>One-Off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31640" y="1700280"/>
          <a:ext cx="8244000" cy="4084560"/>
        </p:xfrm>
        <a:graphic>
          <a:graphicData uri="http://schemas.openxmlformats.org/drawingml/2006/table">
            <a:tbl>
              <a:tblPr/>
              <a:tblGrid>
                <a:gridCol w="3000600"/>
                <a:gridCol w="5243400"/>
              </a:tblGrid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w much each item will co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ols and 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at is used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itial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it costs to set up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duction ef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quickly and cheaply overall the product is to mak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training do the people making the item ne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do the people making the item have to be pai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1"/>
          <p:cNvSpPr/>
          <p:nvPr/>
        </p:nvSpPr>
        <p:spPr>
          <a:xfrm>
            <a:off x="1547640" y="907920"/>
            <a:ext cx="6048720" cy="69876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Comic Sans MS"/>
              </a:rPr>
              <a:t>Production Scales: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0" y="1033560"/>
          <a:ext cx="9144000" cy="5851440"/>
        </p:xfrm>
        <a:graphic>
          <a:graphicData uri="http://schemas.openxmlformats.org/drawingml/2006/table">
            <a:tbl>
              <a:tblPr/>
              <a:tblGrid>
                <a:gridCol w="1446120"/>
                <a:gridCol w="2525760"/>
                <a:gridCol w="517212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w much each item will co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cost item -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cost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cost item -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ols and 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at is used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tools - can be used to make other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ed tools - can only be used to make a few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icated tools - can only be used to make one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itial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it costs to set up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investment -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investment -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duction ef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quickly and cheaply overall the product is to mak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efficiency - is slow and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ef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efficiency - is quick and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training do the people making the item ne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ed - workers who have had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ots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f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-skilled - workers who have had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ome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skilled - workers who have had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o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do the people making the item have to be pai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wages -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w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wages -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1"/>
          <p:cNvSpPr/>
          <p:nvPr/>
        </p:nvSpPr>
        <p:spPr>
          <a:xfrm>
            <a:off x="2771640" y="200160"/>
            <a:ext cx="3600720" cy="69840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omic Sans MS"/>
              </a:rPr>
              <a:t>Production Scales: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24:57Z</dcterms:created>
  <dc:creator>K. Sugden</dc:creator>
  <dc:description/>
  <dc:language>en-US</dc:language>
  <cp:lastModifiedBy>David Hudson</cp:lastModifiedBy>
  <cp:lastPrinted>2016-11-02T13:06:20Z</cp:lastPrinted>
  <dcterms:modified xsi:type="dcterms:W3CDTF">2018-08-09T19:45:17Z</dcterms:modified>
  <cp:revision>237</cp:revision>
  <dc:subject/>
  <dc:title>Slide 1</dc:title>
</cp:coreProperties>
</file>