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2A7F-0F8C-419F-AE79-1F9C4010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D71F-6C66-4F57-B4D5-69073E13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4BD-D602-4813-813A-31B11782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477F-0205-4D9D-B929-1F4885AB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CDA7-F5BC-4FC4-8820-1C19465D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65E3-8095-4FB1-A6D3-FA8C6933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4D7-8864-4D92-A554-FC1CF112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5EA-02F7-4F96-A27B-67EEF33A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F5F-0ADD-43CA-850F-5C761078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CD74-FA24-4744-AD6B-44D5708E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58B-BF60-4511-A930-62EBF99A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C87-D97B-406E-B4C4-1EAF8630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E634-49E2-43E1-B6D5-6652196AAB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35280" cy="858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596360" y="57240"/>
            <a:ext cx="1512720" cy="85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1163" b="0"/>
          <a:stretch/>
        </p:blipFill>
        <p:spPr>
          <a:xfrm>
            <a:off x="704880" y="1362240"/>
            <a:ext cx="7827840" cy="528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717840" y="6289560"/>
            <a:ext cx="4501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ale coloured, speckled peppered m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2570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eppered m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28520" y="83016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modern example of evolu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1163" b="0"/>
          <a:stretch/>
        </p:blipFill>
        <p:spPr>
          <a:xfrm>
            <a:off x="704880" y="1366920"/>
            <a:ext cx="7827840" cy="527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705960" y="6280200"/>
            <a:ext cx="34329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rk coloured peppered m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2570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eppered m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28520" y="83016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modern example of evolu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1163" b="0"/>
          <a:stretch/>
        </p:blipFill>
        <p:spPr>
          <a:xfrm>
            <a:off x="704880" y="1366920"/>
            <a:ext cx="7827840" cy="527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971640" y="2570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eppered m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28520" y="83016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modern example of evolu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5960" y="6275520"/>
            <a:ext cx="34329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eppered moths on tree tr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1:30:44Z</dcterms:created>
  <dc:creator>Michelle Lindley</dc:creator>
  <dc:description/>
  <dc:language>en-US</dc:language>
  <cp:lastModifiedBy>Michelle Lindley</cp:lastModifiedBy>
  <dcterms:modified xsi:type="dcterms:W3CDTF">2009-06-25T10:30:13Z</dcterms:modified>
  <cp:revision>33</cp:revision>
  <dc:subject/>
  <dc:title>Slide 1</dc:title>
</cp:coreProperties>
</file>