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4CF-75E2-4272-B518-3067229C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05E-ADA8-4F94-B563-3DD81262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AAD-CCA0-4DD4-AA71-83D164A2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78B-115E-4036-BF9E-D1FE1A35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E87-142C-46F1-9C90-A3D599C9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275-5BA8-4E93-A748-CB7BDAFD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BAC-11FA-4E7B-B1A8-0E81206A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396-2647-4C95-84B0-4A51CBAF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061-C08B-4204-A50C-C332CFA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510-0252-44C7-9F13-0A20691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366-7FF8-42E5-BB57-B2ECEBC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9C0-8E5C-43AF-989A-094D109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471B3-2D80-4165-BB67-710ADAA97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057400" y="2286000"/>
            <a:ext cx="5181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93d3"/>
                </a:solidFill>
                <a:latin typeface="Arial"/>
                <a:ea typeface="Arial"/>
              </a:rPr>
              <a:t>Global Transpor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What is the futur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87480" y="6310440"/>
            <a:ext cx="3003480" cy="337320"/>
            <a:chOff x="87480" y="6310440"/>
            <a:chExt cx="3003480" cy="337320"/>
          </a:xfrm>
        </p:grpSpPr>
        <p:pic>
          <p:nvPicPr>
            <p:cNvPr id="43" name="Picture 12" descr=""/>
            <p:cNvPicPr/>
            <p:nvPr/>
          </p:nvPicPr>
          <p:blipFill>
            <a:blip r:embed="rId2"/>
            <a:stretch/>
          </p:blipFill>
          <p:spPr>
            <a:xfrm>
              <a:off x="87480" y="6320160"/>
              <a:ext cx="626040" cy="3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9"/>
            <p:cNvSpPr/>
            <p:nvPr/>
          </p:nvSpPr>
          <p:spPr>
            <a:xfrm>
              <a:off x="713520" y="6310440"/>
              <a:ext cx="23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lore engineering careers at www.tomorrowsengineers.org.uk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5" descr="Boy_2.jpg"/>
          <p:cNvPicPr/>
          <p:nvPr/>
        </p:nvPicPr>
        <p:blipFill>
          <a:blip r:embed="rId2"/>
          <a:stretch/>
        </p:blipFill>
        <p:spPr>
          <a:xfrm>
            <a:off x="433440" y="3816360"/>
            <a:ext cx="1011240" cy="100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Girl.jpg"/>
          <p:cNvPicPr/>
          <p:nvPr/>
        </p:nvPicPr>
        <p:blipFill>
          <a:blip r:embed="rId3"/>
          <a:stretch/>
        </p:blipFill>
        <p:spPr>
          <a:xfrm>
            <a:off x="433440" y="2762280"/>
            <a:ext cx="1011240" cy="101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Boy_1.jpg"/>
          <p:cNvPicPr/>
          <p:nvPr/>
        </p:nvPicPr>
        <p:blipFill>
          <a:blip r:embed="rId4"/>
          <a:stretch/>
        </p:blipFill>
        <p:spPr>
          <a:xfrm>
            <a:off x="433440" y="1712880"/>
            <a:ext cx="1011240" cy="1011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1424160" y="1863720"/>
            <a:ext cx="7251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We won’t do any better than aeroplanes. In the future they will become even bigger and f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1403280" y="2925720"/>
            <a:ext cx="727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Planes cause pollution! The carbon footprint of a plane journey is just too hig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1459080" y="3957480"/>
            <a:ext cx="721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Planes use non renewable fuels. That’s the main issue here – what are we going to do when these run out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439560" y="1268280"/>
            <a:ext cx="8704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100" spc="-1" strike="noStrike">
                <a:solidFill>
                  <a:srgbClr val="0093d3"/>
                </a:solidFill>
                <a:latin typeface="Arial"/>
                <a:ea typeface="Arial"/>
              </a:rPr>
              <a:t>What is the future of global transport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20"/>
          <p:cNvSpPr/>
          <p:nvPr/>
        </p:nvSpPr>
        <p:spPr>
          <a:xfrm>
            <a:off x="488880" y="4943520"/>
            <a:ext cx="81867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93d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542880" y="4917960"/>
            <a:ext cx="3038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Leave a comment.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0"/>
          <p:cNvGrpSpPr/>
          <p:nvPr/>
        </p:nvGrpSpPr>
        <p:grpSpPr>
          <a:xfrm>
            <a:off x="87480" y="6310440"/>
            <a:ext cx="3003480" cy="337320"/>
            <a:chOff x="87480" y="6310440"/>
            <a:chExt cx="3003480" cy="337320"/>
          </a:xfrm>
        </p:grpSpPr>
        <p:pic>
          <p:nvPicPr>
            <p:cNvPr id="55" name="Picture 12" descr=""/>
            <p:cNvPicPr/>
            <p:nvPr/>
          </p:nvPicPr>
          <p:blipFill>
            <a:blip r:embed="rId5"/>
            <a:stretch/>
          </p:blipFill>
          <p:spPr>
            <a:xfrm>
              <a:off x="87480" y="6320160"/>
              <a:ext cx="626040" cy="3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9"/>
            <p:cNvSpPr/>
            <p:nvPr/>
          </p:nvSpPr>
          <p:spPr>
            <a:xfrm>
              <a:off x="713520" y="6310440"/>
              <a:ext cx="23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lore engineering careers at www.tomorrowsengineers.org.uk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20:57Z</dcterms:created>
  <dc:creator>Theresa Potts</dc:creator>
  <dc:description/>
  <dc:language>en-US</dc:language>
  <cp:lastModifiedBy>Margerison,Holly</cp:lastModifiedBy>
  <dcterms:modified xsi:type="dcterms:W3CDTF">2014-10-15T14:38:00Z</dcterms:modified>
  <cp:revision>38</cp:revision>
  <dc:subject/>
  <dc:title>Slide 1</dc:title>
</cp:coreProperties>
</file>